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4239-94BC-47DB-BAF1-A02D9F51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00E-9548-4D2A-9679-C0502610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9EE-A066-4BF0-BCDA-1B6E4181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9E1-F3D7-47EA-BF5D-9835A293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6E6-0336-4648-A65F-3CE344F3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6FD-9FEA-44E8-8808-8110FFC5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CA6C-55D9-4BFF-9B56-4B586F15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B7F-FA0C-430E-B9C3-D22E83CE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96D-A0BC-4639-89E6-ADC0F492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79E-2BC2-470F-B925-28239B8B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DD8-083A-438D-B065-C839F43B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09F-B9B8-4880-B0B9-2EFB9A23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DEE2-BD1D-4552-81A8-38807974B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2 Spasiteľ môj, prosbu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, prosb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len sa utiek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iedny som a stráp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 som strat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úrke žitia veď ma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eba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chry často býva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oďkou mojou zmietajú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lny zúriť prestan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tvoj rozkaz dostan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u len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, veď ma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keď breh už blízko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ozivé je úskal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keď tebou viesť sa d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prístavu doplá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hlas t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počuť smiem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boj sa, ja viesť ťa chce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7T15:44:04Z</dcterms:modified>
  <cp:revision>21</cp:revision>
  <dc:subject/>
  <dc:title>Je veľký náš Pán, on slávy je Kráľ Nech do všetkých strán  spev vrúcnych znie chvál.</dc:title>
</cp:coreProperties>
</file>